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34CF-8E9C-4AD4-9C67-01B6E57E3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B5CB-D41A-4523-91A2-850750BB6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John – anchor chart for Math Talk Guideline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2429-F95B-4B19-A69A-6727A6E6D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list on sticky notes or loose paper - facilitator collects notes and creates anchor chart during next activity (distributing learning lo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eb – anchor chart of Big Idea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509D-0C89-478D-ACEB-AF5973ECF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1EB-CC04-4929-A445-F8DA381A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887-E281-418B-89EC-36512EBE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1F5-EEA8-491B-BD6D-55207F13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95A-E05E-4966-ABAD-C7F4AE6A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EFBD-1930-41AA-AFF5-417FE2BC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78A3-7B6B-41B9-835C-5D229F8D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D80B-E18E-4334-87B6-33E27D9E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1BB4-9D91-4571-A74F-7ED76E3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2B05-3B31-4D4D-9BDC-B4F98A4B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4D32-58F3-4A1E-A59F-3EBF24CB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D616-F52A-4E88-8ECD-7B149E88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D1D-6090-4350-84EB-83E4070D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3DEF-BCF9-46F3-89C0-F9E087DF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90DB-D73C-4742-9F5B-5B937B4E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8986-AE20-4752-8702-0A443757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ABE0-20F1-4093-8BF7-E8D2FF83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7D6E-B8B6-4E92-AA2F-85BE655D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532-A1B5-4FAF-AE20-3D789A8F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C2AE-019A-4177-B4C5-BBCDCE2F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612-6358-4D18-A0F5-9CF6F5F0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7BE-0089-4234-942B-0C150800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4EC-8492-4635-9CA4-E61FF7D5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0EC-A757-48F0-AF67-86DAEB0D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E86-9372-4D39-8593-B988763F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8552-4E26-42EA-A0B0-543322CF82F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1DEC-BE11-4CF6-913E-64F29E429B2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ades 7/8 Breakout Sess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uidelines for Math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rom LNS Research Monograph #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69b"/>
                </a:solidFill>
                <a:latin typeface="Arial"/>
              </a:rPr>
              <a:t>Expla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“My strategy was…”; “I think ___ is saying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69b"/>
                </a:solidFill>
                <a:latin typeface="Arial"/>
              </a:rPr>
              <a:t>Agree with rea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69b"/>
                </a:solidFill>
                <a:latin typeface="Arial"/>
              </a:rPr>
              <a:t>Disagree with rea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69b"/>
                </a:solidFill>
                <a:latin typeface="Arial"/>
              </a:rPr>
              <a:t>Build 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“I would like to build on ____’s idea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69b"/>
                </a:solidFill>
                <a:latin typeface="Arial"/>
              </a:rPr>
              <a:t>Go beyo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“Another way to think about it is…”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ractising Math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one problem your group matched to a Big Idea fairly easily - share your group’s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one problem your group had difficulty matching to a Big Idea – share your group’s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Questions or Comments?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07640" y="4365720"/>
            <a:ext cx="5715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a great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e you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build a collaborative learn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develop a common understanding of 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ake connections to the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Introduc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interesting fact about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to establish guidelines for how we will interact and learn together this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Guiding Questio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What norms might make our work together mo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table group, list 3-5 no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your list with the larger group (anchor c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Professional Learning Log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veral purpo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book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ion journa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estions / “Aha” momen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Arial"/>
              </a:rPr>
              <a:t>Minds On Proportional Reasoning</a:t>
            </a:r>
            <a:endParaRPr b="0" lang="en-US" sz="4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 group, sort the ‘answer’ cards into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explain your sorting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y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 group, create a Frayer Model to represent your current understanding of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and discu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model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the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6"/>
          <p:cNvGrpSpPr/>
          <p:nvPr/>
        </p:nvGrpSpPr>
        <p:grpSpPr>
          <a:xfrm>
            <a:off x="4268880" y="4221000"/>
            <a:ext cx="4767120" cy="2794680"/>
            <a:chOff x="4268880" y="4221000"/>
            <a:chExt cx="4767120" cy="2794680"/>
          </a:xfrm>
        </p:grpSpPr>
        <p:grpSp>
          <p:nvGrpSpPr>
            <p:cNvPr id="106" name="Group 4"/>
            <p:cNvGrpSpPr/>
            <p:nvPr/>
          </p:nvGrpSpPr>
          <p:grpSpPr>
            <a:xfrm>
              <a:off x="4282920" y="4221000"/>
              <a:ext cx="4636080" cy="2408760"/>
              <a:chOff x="4282920" y="4221000"/>
              <a:chExt cx="4636080" cy="2408760"/>
            </a:xfrm>
          </p:grpSpPr>
          <p:sp>
            <p:nvSpPr>
              <p:cNvPr id="107" name="Rectangle 5"/>
              <p:cNvSpPr/>
              <p:nvPr/>
            </p:nvSpPr>
            <p:spPr>
              <a:xfrm>
                <a:off x="4283280" y="4221000"/>
                <a:ext cx="4635720" cy="24087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6"/>
              <p:cNvSpPr/>
              <p:nvPr/>
            </p:nvSpPr>
            <p:spPr>
              <a:xfrm>
                <a:off x="5893560" y="5132520"/>
                <a:ext cx="1497600" cy="58572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7"/>
              <p:cNvSpPr/>
              <p:nvPr/>
            </p:nvSpPr>
            <p:spPr>
              <a:xfrm flipV="1">
                <a:off x="6636600" y="4221000"/>
                <a:ext cx="0" cy="9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8"/>
              <p:cNvSpPr/>
              <p:nvPr/>
            </p:nvSpPr>
            <p:spPr>
              <a:xfrm flipV="1">
                <a:off x="6648480" y="5717880"/>
                <a:ext cx="0" cy="9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9"/>
              <p:cNvSpPr/>
              <p:nvPr/>
            </p:nvSpPr>
            <p:spPr>
              <a:xfrm flipH="1">
                <a:off x="4282920" y="5457960"/>
                <a:ext cx="162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0"/>
              <p:cNvSpPr/>
              <p:nvPr/>
            </p:nvSpPr>
            <p:spPr>
              <a:xfrm>
                <a:off x="7391520" y="5420160"/>
                <a:ext cx="149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15"/>
            <p:cNvSpPr/>
            <p:nvPr/>
          </p:nvSpPr>
          <p:spPr>
            <a:xfrm>
              <a:off x="4268880" y="6184800"/>
              <a:ext cx="15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4283280" y="4221000"/>
              <a:ext cx="15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efin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7003080" y="4221000"/>
              <a:ext cx="203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Characterist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6937560" y="6190200"/>
              <a:ext cx="203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Non-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5"/>
            <p:cNvSpPr/>
            <p:nvPr/>
          </p:nvSpPr>
          <p:spPr>
            <a:xfrm>
              <a:off x="6299640" y="5157000"/>
              <a:ext cx="86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P. 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anchor chart or your own handout to review the Big Ideas for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each of the Big Ideas mean, in your own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 each problem card to one or more of the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justify your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Michelle Lang</cp:lastModifiedBy>
  <dcterms:modified xsi:type="dcterms:W3CDTF">2010-08-16T01:23:24Z</dcterms:modified>
  <cp:revision>168</cp:revision>
  <dc:subject/>
  <dc:title>Slide 1</dc:title>
</cp:coreProperties>
</file>